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EEA-8E13-44FC-86CB-D0217621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934-04AB-48A5-B7CC-74B8FD79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BCB-A8B6-41B3-A816-F4F744C1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863-B1F9-4C4E-9A74-2BCF5EB2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07F-AFA6-442B-B795-26D4E30D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D8D-0E55-4270-915E-10E0A6A5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951-4B74-4B82-997B-5ED38C93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5E8-75FE-49BF-9DEA-8D4FD59C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64C-7063-409F-B930-ABD4AA7A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0E7-1347-47F5-926D-72E6E3DF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5E7-5B31-4382-B8B3-AB6CF289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C27-9C88-4B6C-B6AC-14961725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8D12-7781-4B38-8A34-C76FFB310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ticle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class newsletters, reading passages, sports highlight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New P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016000"/>
            <a:ext cx="9144000" cy="484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81080" y="3200400"/>
            <a:ext cx="99072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514600"/>
            <a:ext cx="83808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Article Libra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984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3581280"/>
            <a:ext cx="144792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your p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x. Newslette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9320" y="3429000"/>
            <a:ext cx="838080" cy="685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lect the page from your page 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220320" cy="5262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520" y="5029200"/>
            <a:ext cx="16002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4876920"/>
            <a:ext cx="251460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New Artic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40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27360" y="3043080"/>
            <a:ext cx="1371600" cy="5302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e this article, and enter teaser text, an image, and the start/end date for the article, then click “Next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936800"/>
            <a:ext cx="9296280" cy="4921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3276720"/>
            <a:ext cx="7621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3657600"/>
            <a:ext cx="7617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4191120"/>
            <a:ext cx="7621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5715000"/>
            <a:ext cx="838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 and paste or type your article in the text box, then click “Save”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“Home” to return to your page li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19320" y="3581280"/>
            <a:ext cx="1828800" cy="990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410080"/>
            <a:ext cx="6094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2666880"/>
            <a:ext cx="304920" cy="3812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return to the wik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1:04:41Z</dcterms:created>
  <dc:creator>%$#@1</dc:creator>
  <dc:description/>
  <dc:language>en-US</dc:language>
  <cp:lastModifiedBy>%$#@1</cp:lastModifiedBy>
  <dcterms:modified xsi:type="dcterms:W3CDTF">2010-04-27T01:04:56Z</dcterms:modified>
  <cp:revision>2</cp:revision>
  <dc:subject/>
  <dc:title>Article Library</dc:title>
</cp:coreProperties>
</file>